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C594-30B9-42EC-9F22-5C6E6F04D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70E1-D813-4249-A36B-6A6AA986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F285-5C21-4777-9F18-7E468183E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BC0B-DDD2-4E19-A55D-557EB2FD6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7A50-D685-4DAA-A2BF-70E49E5A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E6CA-0013-4B6F-AFCB-7781DD96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CCF2-C52F-4386-9B16-A4D80FD5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CE23-78D5-4981-9CF7-74C60610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3BED-D553-4214-ABCC-8BFF4353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5184-913E-4EBC-A1CD-8A3D09E1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A643-8713-415A-B438-B60BCD34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07C2-5A64-4896-BE3D-95C7F069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EDCC-1D97-4428-B7E3-6D620CFAC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502884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 9-20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an ask questions in order to comprehend tex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80880"/>
            <a:ext cx="25909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down two questions you have about the pictu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90920" y="0"/>
            <a:ext cx="6553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ask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o Is the Dark-Haired On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o model QUESTION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from the beginnin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third paragraph, I ask, “Who is Lise?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is question on a post-it and stick it to the chart paper graphic organiz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 to page 24.  Read the entire page and write down the TWO questions I wrote down in the packet on post-its.  Stick it on the graphic organiz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class, try to answer the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ing Graphic Organizer Ans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is Lis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nnemarie’s sis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Daughter of Mr. and Mrs. Johanse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will the photo album prov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t the family has three daughter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could/would have happened if the soldiers found the Star of David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200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Read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Breadwinn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e down FIVE question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the margins (ANNOTATE)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 the questions in the packet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TURN YOUR PACKET INTO THE BIN WHEN YOU FINISH!!!!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5360" y="0"/>
            <a:ext cx="78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"/>
              </a:rPr>
              <a:t>Independent Pract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read your independent book, try to ask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o look for the ans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6:56:17Z</dcterms:created>
  <dc:creator>Administrator</dc:creator>
  <dc:description/>
  <dc:language>en-US</dc:language>
  <cp:lastModifiedBy>Administrator</cp:lastModifiedBy>
  <dcterms:modified xsi:type="dcterms:W3CDTF">2010-09-14T21:43:28Z</dcterms:modified>
  <cp:revision>7</cp:revision>
  <dc:subject/>
  <dc:title>Do Now 9-20 I can ask questions in order to comprehend text.</dc:title>
</cp:coreProperties>
</file>